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6198-D525-4FA7-B74F-CB037C9FB2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0F38-F728-4248-A9EC-763431605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3C8-1B8F-4322-A68F-733CF6CF2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32DF-1AB5-4862-837A-CF2A9B84E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4C44-DF2A-40DF-8CCD-C90698AD8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C11D-B391-426F-9B2D-CA2FCE894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D2D-7511-4E4E-9769-983F687F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666-1C4F-48FB-9C34-759C3BE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2BE-29DB-4BBB-97A9-0EBB1202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3B1-625A-45B4-8BF9-E3D2A3A0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8AE4-F33F-40BE-920C-FD34B3D9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A0E-38FA-448F-BFA1-F668FFE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46F-235F-48EC-A951-5D6862CA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6E2-8E77-44B8-B1BD-401F7B8C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5DC-F9C1-465C-A7F9-D4C3464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115-B48D-46FB-BB54-1EA017A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7A88-DD2E-4913-B995-A524D75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375-A8DB-42F4-8448-D6A464A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A73E-F25C-4E0E-BF47-33A4F1B6C2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8B8A-B5B8-46B3-A880-6A3625DBE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Wichita Indians of  Tex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Designed :By Hailey Bor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752480" y="621180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s. Sm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/20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706480" y="675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://t1.gstatic.com/images?q=tbn:ANd9GcRbNtrs1vZfyExqjrIfDWpWUP_u2UU08RHFYXgNO4ilkxq9jTlxSQ"/>
          <p:cNvPicPr/>
          <p:nvPr/>
        </p:nvPicPr>
        <p:blipFill>
          <a:blip r:embed="rId1"/>
          <a:stretch/>
        </p:blipFill>
        <p:spPr>
          <a:xfrm>
            <a:off x="2590920" y="1752480"/>
            <a:ext cx="40384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urces I us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 Im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g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kip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s For Kids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. 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he Wichita Indians live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lived in northern tex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rosie-posie\Desktop\comvil[1].jpg"/>
          <p:cNvPicPr/>
          <p:nvPr/>
        </p:nvPicPr>
        <p:blipFill>
          <a:blip r:embed="rId1"/>
          <a:stretch/>
        </p:blipFill>
        <p:spPr>
          <a:xfrm>
            <a:off x="1447920" y="2362320"/>
            <a:ext cx="6194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the Wichita Indians ate and how they got i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were farmers the women stayed at home and grew crops of corns, squash, and pumpk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uld go hunting for deer and  small fo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ichita's daily life activitie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 Wichita  women would stay at home and harvest their food of their 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 would mostly go out and hunt for deer and small animals for din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id the Wichita Indians believe in and worshi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believed in the morning star and the mo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rosie-posie\Desktop\wichhous[1].jpg"/>
          <p:cNvPicPr/>
          <p:nvPr/>
        </p:nvPicPr>
        <p:blipFill>
          <a:blip r:embed="rId1"/>
          <a:stretch/>
        </p:blipFill>
        <p:spPr>
          <a:xfrm>
            <a:off x="2209680" y="2286000"/>
            <a:ext cx="537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the Wichita Indians  know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chita Indians are known for their crop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ould crops all the vegetables you could possibly think of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Users\Rosie-Posie\Desktop\wichita-sm.jpg"/>
          <p:cNvPicPr/>
          <p:nvPr/>
        </p:nvPicPr>
        <p:blipFill>
          <a:blip r:embed="rId1"/>
          <a:stretch/>
        </p:blipFill>
        <p:spPr>
          <a:xfrm>
            <a:off x="4114800" y="3276720"/>
            <a:ext cx="43434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ere the Wichita Indian's traditions and celebr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did the “ghost dance” religion cele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TonkawanHistory.jpg"/>
          <p:cNvPicPr/>
          <p:nvPr/>
        </p:nvPicPr>
        <p:blipFill>
          <a:blip r:embed="rId1"/>
          <a:stretch/>
        </p:blipFill>
        <p:spPr>
          <a:xfrm>
            <a:off x="2362320" y="2819520"/>
            <a:ext cx="47577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ontributions did they give to Tex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gave us many words we use everyday such as caribou, buffalo, and chipmu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eat many vegetables that they grew back then, such as corn and squa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changed for them as settlers arriv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used to herd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ot of contagious diseases caused many dea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introduces to guns and weap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26:15Z</dcterms:created>
  <dc:creator>hailey rose borja</dc:creator>
  <dc:description/>
  <dc:language>en-US</dc:language>
  <cp:lastModifiedBy>Hailey Borja</cp:lastModifiedBy>
  <dcterms:modified xsi:type="dcterms:W3CDTF">2011-10-21T18:49:54Z</dcterms:modified>
  <cp:revision>14</cp:revision>
  <dc:subject/>
  <dc:title>Wichita Indians of  Texas</dc:title>
</cp:coreProperties>
</file>